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5.jpeg" ContentType="image/jpeg"/>
  <Override PartName="/ppt/media/image26.jpeg" ContentType="image/jpeg"/>
  <Override PartName="/ppt/media/image2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A34-52C7-43B7-8FD9-998793F1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752-8EC3-4692-B001-AC14EC3B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8C9-5835-4975-982C-4BF65554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1D2-5C76-4D5F-B033-49902EC6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498-8CAB-42D0-ADCB-CCD23705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EC6-13E6-438D-8CCE-8952367E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A5E-8C0F-42FB-B209-DCA9241E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F1F-6415-4B9C-B74D-DD6ACF5B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216-3A61-457A-9498-1571704C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526-F020-4964-AA1C-CA763021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DE6-26E4-4E66-8364-95B06409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20D-81F1-4048-90BA-95EE2B54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208A-E1A7-471A-A5E6-69E356D69E94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pt/imgres?imgurl=http://contadoresalatorremena.com.mx/wp-content/auditoria-fiscal-interna-y-defensa-fiscal-contadores-fiscalistas-alatorre-mena.jpg&amp;imgrefurl=http://www.audiper.com/site/index.php%3Foption%3Dcom_content%26view%3Darticle%26id%3D22%26Itemid%3D59&amp;usg=___PQyLWoC_J0XY9AVXLqUdmcbqcg=&amp;h=300&amp;w=300&amp;sz=12&amp;hl=pt-PT&amp;start=12&amp;tbnid=DvRVn4Q5WjeEZM:&amp;tbnh=116&amp;tbnw=116&amp;prev=/images%3Fq%3Dauditoria%26gbv%3D2%26hl%3Dpt-PT%26sa%3D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s://senado.uc.pt/gqci/quem_somos/galeria/cartaz_auditoria_Parabens.jpg&amp;imgrefurl=https://senado.uc.pt/gqci/quem_somos/galeria&amp;usg=__-tM9DyucP2v3AlQxuoE2meUgOcg=&amp;h=436&amp;w=602&amp;sz=29&amp;hl=pt-PT&amp;start=28&amp;tbnid=83wEx9u_yI_liM:&amp;tbnh=98&amp;tbnw=135&amp;prev=/images%3Fq%3Dauditoria%26gbv%3D2%26ndsp%3D20%26hl%3Dpt-PT%26sa%3DN%26start%3D20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www.dds.com.br/images/auditoria.jpg&amp;imgrefurl=http://www.dds.com.br/auditoria.html&amp;usg=__fnLCOkiGgPWLFEXZfol8UOmDmvw=&amp;h=240&amp;w=214&amp;sz=33&amp;hl=pt-PT&amp;start=52&amp;tbnid=bpYS75fTzjUknM:&amp;tbnh=110&amp;tbnw=98&amp;prev=/images%3Fq%3Dauditoria%26gbv%3D2%26ndsp%3D20%26hl%3Dpt-PT%26sa%3DN%26start%3D4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www.serendipidade.com/media/comunicacao_web_2.0_3.gif&amp;imgrefurl=http://www.serendipidade.com/tag/web-20/page/3/&amp;usg=__VBXGB-x87Uxch1GFP4k3efWV84k=&amp;h=383&amp;w=450&amp;sz=10&amp;hl=pt-PT&amp;start=10&amp;tbnid=AMLecD47yj8rtM:&amp;tbnh=108&amp;tbnw=127&amp;prev=/images%3Fq%3Dcomunica%25C3%25A7%25C3%25A3o%26gbv%3D2%26hl%3Dpt-P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user.img.todaoferta.uol.com.br/G/W/YL/B0WYMW/1220729702838_bigPhoto_0.jpg&amp;imgrefurl=http://comprar.todaoferta.uol.com.br/auditoria-trabalhista-departamento-pessoal-GWYLB0WYMW&amp;usg=__CI5uqdobGgXzmuabyXCtuNlGO_A=&amp;h=300&amp;w=300&amp;sz=12&amp;hl=pt-PT&amp;start=92&amp;tbnid=c0A7Ndu7Ul3AkM:&amp;tbnh=116&amp;tbnw=116&amp;prev=/images%3Fq%3Dauditoria%26gbv%3D2%26ndsp%3D20%26hl%3Dpt-PT%26sa%3DN%26start%3D80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upload.wikimedia.org/wikipedia/commons/1/14/Auditoria.png&amp;imgrefurl=http://commons.wikimedia.org/wiki/File:Auditoria.png&amp;usg=__ea_OB-i20Fq9f-SPgJnxXLyKEXs=&amp;h=314&amp;w=290&amp;sz=74&amp;hl=pt-PT&amp;start=144&amp;tbnid=-KnMssMk6jscBM:&amp;tbnh=117&amp;tbnw=108&amp;prev=/images%3Fq%3Dauditoria%26gbv%3D2%26ndsp%3D20%26hl%3Dpt-PT%26sa%3DN%26start%3D14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pt.dreamstime.com/reuni&#227;o-de-neg&#243;cio-thumb7692471.jpg&amp;imgrefurl=http://pt.dreamstime.com/reuni%25C3%25A3o-de-neg%25C3%25B3cio-image7692471&amp;usg=__jup5NiLp7QTsHW0quD7JeCFc60o=&amp;h=300&amp;w=300&amp;sz=21&amp;hl=pt-PT&amp;start=89&amp;tbnid=91GrNLiUVEGxsM:&amp;tbnh=116&amp;tbnw=116&amp;prev=/images%3Fq%3Dreuni%25C3%25A3o%26gbv%3D2%26ndsp%3D20%26hl%3Dpt-PT%26sa%3DN%26start%3D80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www.soloconsultores.com.br/imagem/jpg_esq06.jpg&amp;imgrefurl=http://www.soloconsultores.com.br/d_pes_comInter.htm&amp;usg=__DQXWSQ5j72ZUCNmdE--2NXehzxo=&amp;h=343&amp;w=340&amp;sz=16&amp;hl=pt-PT&amp;start=64&amp;tbnid=OutaUEBJ4tnDKM:&amp;tbnh=120&amp;tbnw=119&amp;prev=/images%3Fq%3Dcomunica%25C3%25A7%25C3%25A3o%26gbv%3D2%26ndsp%3D20%26hl%3Dpt-PT%26sa%3DN%26start%3D60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www.padraoempresarial.com.br/imagens/img_auditoria.jpg&amp;imgrefurl=http://www.padraoempresarial.com.br/auditoria.php&amp;usg=__oEAtloo9__a9VQC9lS6PzFE4Z1Q=&amp;h=246&amp;w=705&amp;sz=42&amp;hl=pt-PT&amp;start=222&amp;tbnid=aG2EfgJNZUGKHM:&amp;tbnh=49&amp;tbnw=140&amp;prev=/images%3Fq%3Dauditoria%26gbv%3D2%26ndsp%3D20%26hl%3Dpt-PT%26sa%3DN%26start%3D220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dicasdevendas.files.wordpress.com/2008/11/reuniao_img.jpg&amp;imgrefurl=http://dicasdevendas.wordpress.com/2008/11/07/como-conduzir-uma-reuniao-7-dicas-sucessonews/&amp;usg=__JuynafFkKIw7TCQ_ps_NoQSPyG8=&amp;h=300&amp;w=300&amp;sz=16&amp;hl=pt-PT&amp;start=2&amp;tbnid=XsmF_EY9ZD34NM:&amp;tbnh=116&amp;tbnw=116&amp;prev=/images%3Fq%3Dreuni%25C3%25A3o%26gbv%3D2%26hl%3Dpt-PT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www.maph.com.br/images/auditoria.jpg&amp;imgrefurl=http://www.maph.com.br/product_info.php%3Fproducts_id%3D168&amp;usg=__Cs3DiiPcdMgkPrChCQsA9HSWzgU=&amp;h=422&amp;w=260&amp;sz=39&amp;hl=pt-PT&amp;start=2&amp;tbnid=-4-m5sX8dl7vyM:&amp;tbnh=126&amp;tbnw=78&amp;prev=/images%3Fq%3Dauditoria%26gbv%3D2%26ndsp%3D20%26hl%3Dpt-PT%26sa%3D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linoresende.jor.br/wp-content/uploads/2008/04/funda.jpg&amp;imgrefurl=http://linoresende.jor.br/algumas-questoes-fundamentais/&amp;usg=__I6H5D50Gry7LA8aoIP0m3S_6gh0=&amp;h=334&amp;w=315&amp;sz=9&amp;hl=pt-PT&amp;start=3&amp;tbnid=bZ5sByYsKFoO7M:&amp;tbnh=119&amp;tbnw=112&amp;prev=/images%3Fq%3Dquest%25C3%25B5es%26gbv%3D2%26hl%3Dpt-PT%26sa%3D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AUDI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Paula Corr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uditoria"/>
          <p:cNvPicPr/>
          <p:nvPr/>
        </p:nvPicPr>
        <p:blipFill>
          <a:blip r:embed="rId1"/>
          <a:stretch/>
        </p:blipFill>
        <p:spPr>
          <a:xfrm>
            <a:off x="6659640" y="4365720"/>
            <a:ext cx="2244600" cy="227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uditoria-fiscal-interna-y-defensa-fiscal-contadores-fiscalistas-alatorre-men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caso de auditorias internas, compete à empresa estabelecer os critérios que os auditores internos devem obedecer, devendo evidenciar que pela sua formação e/ou experiência se encontram habilitados ao desempenho da fun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caso de auditorias externas, compete à entidade auditora assegurar a qualificação dos seus audi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artaz_auditoria_Parabe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373720"/>
            <a:ext cx="15732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Fases da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Prepa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Auditoria ao lo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Acompanh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auditoria"/>
          <p:cNvPicPr/>
          <p:nvPr/>
        </p:nvPicPr>
        <p:blipFill>
          <a:blip r:embed="rId1"/>
          <a:srcRect l="0" t="11717" r="0" b="0"/>
          <a:stretch/>
        </p:blipFill>
        <p:spPr>
          <a:xfrm>
            <a:off x="324000" y="836640"/>
            <a:ext cx="8496000" cy="4765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5367240" y="6137280"/>
            <a:ext cx="329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http://www.softexpert.com.br/imgs/workflow/auditoria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A preparação da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2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 ser comunicado ao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 ser flexível permitindo adaptações baseadas na informação recolhida no decurso da auditoria e a optimização dos recursos dispon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audito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221000"/>
            <a:ext cx="1768320" cy="19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A preparação da auditoria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34920" y="213372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lano de audi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Lista de verific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Plano de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cc0099"/>
                </a:solidFill>
                <a:latin typeface="Arial"/>
              </a:rPr>
              <a:t>Deve inclui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Identificação da entidade aud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Data da audi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Âmbito e obj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Critérios de auditoria e documentaçã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Identificação da equipa audi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Locais a aud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hora previsível de inicio e duração para as 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Agenda das reuniões a efect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Lista de verific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 conter informação relevante associada aos critérios de auditoria e à documentação da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ter frases iniciadas por: Quando, Onde, Qual e Co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de fazer referência ao número de evidências que o auditor pretende ver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Auditoria ao lo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cc0099"/>
                </a:solidFill>
                <a:latin typeface="Arial"/>
              </a:rPr>
              <a:t>Passos importan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união de a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vid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lação auditor/audi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união de encer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56795359347ed8eaf0df97"/>
          <p:cNvPicPr/>
          <p:nvPr/>
        </p:nvPicPr>
        <p:blipFill>
          <a:blip r:embed="rId1"/>
          <a:stretch/>
        </p:blipFill>
        <p:spPr>
          <a:xfrm>
            <a:off x="6300720" y="4653000"/>
            <a:ext cx="23702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união de aber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resentação da equipa audi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rmação do âmbito e explicação dos obje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plicação das metodologias d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plicação do processo de amostr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ver compromisso de confidenci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união de abertura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rmação dos documentos de refer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rmação do programa de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rmação da disponibilidade de instalações e me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rmação do local e hora das reuni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acultar tempo para colocação de quest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uma audito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ocesso sistemático, independente e documentado realizado com o propósito de obter evidência e avaliar, de forma objectiva o cumprimento das politicas, procedimentos ou requisitos utilizados como referê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Evid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nálise de documento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nálise de documentos externos à entidade (encomendas, reclamações, especificações técnicas,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ntrevistas e reuniões com a gestão de topo e restantes colaboradores da ent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bservação directa das actividades, do ambiente de trabalho e das infra-estrutu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nálise de dados e tend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lação auditor/audi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Deve ser cuidada e valorizada, nomeada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Esclarecer que o objectivo é o de auditar o sistema e não a(s) pessoa(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Sensibilidade para as funções, motivações, objectivos e características pessoais de cada audi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Utilização, sempre que possível, de perguntas abertas em entrev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omunicacao_web_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5210280"/>
            <a:ext cx="15699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Relação auditor/auditado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stabelecimento de comunicação aberta e amigável com o auditado, mantendo, no entanto, a imparcial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sistência e não força na obtenção das evidências d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vitar o confl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ncentração e factos e situações relev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reparação das questões a colocar e exemplos/evidências a solic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união e encer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m por objectivo a apresentação das conclusões da auditoria e do respectivo rel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1220729702838_bigPhoto_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932280"/>
            <a:ext cx="22572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Reunião de encerramento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sta é antecedida de uma reunião entre os elementos da equipa auditora com o objectivo 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Rever as evidências, dos e informações obtidas no decurso d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Acordar sobre o conteúdo do resumo d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laboração do relatório d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Identificar as tarefas de cada elemento da equipa auditora na reunião de encerr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Reunião de encerramento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 compree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resentação do resumo sobre a forma como decorreu 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dentificação dos pontos fortes consta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dentificação das principais defici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dentificação das áreas/oportunidades de melh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resentação do relatório d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Comunic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relatório deve contemplar os seguintes eleme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Informaçã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Resumo d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Constatações d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Informaçã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Identificação dos processos e relatório d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Tipo de auditoria, data e 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Normas de referência, cláusulas normativas auditadas e não audi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Entidade auditada e locais audi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Âmbito da cert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Identificação da equipa audi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Colaboradores contactados /entrevi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Constatações da auditori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m ser numeradas ou codificadas de modo a permitir a sua identificação, indexação e rastreabilidade inequívo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m ser classificadas em não conformidades ou não conformidades ma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m ser redigidas de forma a poderem ser perfeitamente entendidas por quem as vai 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Acompanh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licação das acções correctivas e preven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1_1"/>
          <p:cNvPicPr/>
          <p:nvPr/>
        </p:nvPicPr>
        <p:blipFill>
          <a:blip r:embed="rId1"/>
          <a:stretch/>
        </p:blipFill>
        <p:spPr>
          <a:xfrm>
            <a:off x="4427640" y="342900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175840" y="6237360"/>
            <a:ext cx="66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http://www7.rio.rj.gov.br/cgm/comunicacao/publicacoes/prestandocontas/edicoes/56/img/1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auditoria-2006-07-04%5B1%5D"/>
          <p:cNvPicPr/>
          <p:nvPr/>
        </p:nvPicPr>
        <p:blipFill>
          <a:blip r:embed="rId1"/>
          <a:stretch/>
        </p:blipFill>
        <p:spPr>
          <a:xfrm>
            <a:off x="155520" y="46080"/>
            <a:ext cx="3997440" cy="6119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5076720" y="1052640"/>
            <a:ext cx="338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99"/>
                </a:solidFill>
                <a:latin typeface="Arial"/>
              </a:rPr>
              <a:t>Haverá mot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99"/>
                </a:solidFill>
                <a:latin typeface="Arial"/>
              </a:rPr>
              <a:t>para recei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43360" y="6165720"/>
            <a:ext cx="411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http://2.bp.blogspot.com/_qW7snqHeBWA/SGOioFQUqv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etapas_basicas_auditoria"/>
          <p:cNvPicPr/>
          <p:nvPr/>
        </p:nvPicPr>
        <p:blipFill>
          <a:blip r:embed="rId1"/>
          <a:stretch/>
        </p:blipFill>
        <p:spPr>
          <a:xfrm>
            <a:off x="1871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auditoria"/>
          <p:cNvPicPr/>
          <p:nvPr/>
        </p:nvPicPr>
        <p:blipFill>
          <a:blip r:embed="rId1"/>
          <a:stretch/>
        </p:blipFill>
        <p:spPr>
          <a:xfrm>
            <a:off x="1403280" y="455760"/>
            <a:ext cx="6481800" cy="6083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6124320" y="6453360"/>
            <a:ext cx="29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http://www.piada.com/arquivos/i&amp;81/auditori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5"/>
          <p:cNvSpPr/>
          <p:nvPr/>
        </p:nvSpPr>
        <p:spPr>
          <a:xfrm rot="20999400">
            <a:off x="5075280" y="1052280"/>
            <a:ext cx="4068720" cy="302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800080"/>
                </a:solidFill>
                <a:latin typeface="Arial"/>
              </a:rPr>
              <a:t>ACTI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calvin%2Bauditoria"/>
          <p:cNvPicPr/>
          <p:nvPr/>
        </p:nvPicPr>
        <p:blipFill>
          <a:blip r:embed="rId1"/>
          <a:stretch/>
        </p:blipFill>
        <p:spPr>
          <a:xfrm>
            <a:off x="155520" y="46080"/>
            <a:ext cx="5005440" cy="6478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230760" y="6467400"/>
            <a:ext cx="803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http://1.bp.blogspot.com/_Wc5alABRDj8/SD9mt6_kK8I/AAAAAAAAAII/cn2gN1TbOrQ/s400/calvin%2Bauditori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Auditorias ao Sistema HAC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uditar é parte essencial de qualquer Sistema da Qu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se ter a certeza de que o sistema cumpre com os requisitos é necessário assessorar objectivamente o sistema prat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Qualidade audi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m d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iste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depend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ocumen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auditor reúne e avalia as evidências dos requis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udito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2060640"/>
            <a:ext cx="16272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Auditoria interna ao Sistema HAC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empre que se pretenda verificar que se cu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empre que se pretenda saber onde não se cu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pois de haver uma mudança no produto/planta/pessoal/equip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caso de existir queixas ou outras evidências de fal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99"/>
                </a:solidFill>
                <a:latin typeface="Arial"/>
              </a:rPr>
              <a:t>Auditoria interna ao Sistema HAC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estabelecer ou confirmar o diagrama de fab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estabelecer o estado do sistema actual e identificar pontos de melh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fluxograma1"/>
          <p:cNvPicPr/>
          <p:nvPr/>
        </p:nvPicPr>
        <p:blipFill>
          <a:blip r:embed="rId1"/>
          <a:stretch/>
        </p:blipFill>
        <p:spPr>
          <a:xfrm>
            <a:off x="7236000" y="260280"/>
            <a:ext cx="1272960" cy="6120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7163280" y="635796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http://www.sidul.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quisitos do au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64000" y="199872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reino em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pecialista no Sistema HAC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hecimentos comprovados no prod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calvin_haroldo_reunião"/>
          <p:cNvPicPr/>
          <p:nvPr/>
        </p:nvPicPr>
        <p:blipFill>
          <a:blip r:embed="rId1"/>
          <a:stretch/>
        </p:blipFill>
        <p:spPr>
          <a:xfrm>
            <a:off x="210960" y="1268280"/>
            <a:ext cx="332280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317520" y="566100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http://1.bp.blogspot.com/_Wc5alABRDj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O auditor deve s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dependente/ impar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Bom comuni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Boas relações interpesso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istemático/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ofissional/respeitar a confidenci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li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vestig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reuni%C3%A3o-de-neg%C3%B3cio-thumb76924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12938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O auditor deve ter tre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écnicas de obser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o ser obj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o aud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o fazer um relatório da auditoria com as evidências encont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jpg_esq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4508640"/>
            <a:ext cx="1785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Benef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oporcionar evidências documentadas do programa de gestão de segurança ali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dentificação das áreas do sistema a melhorar ou fortale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Melhoria contínua do sistema de segurança ali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Actividade do auditor antes da auditoria exte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efinir o obj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reparação do programa de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reparação da checlist para 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unir e rever os documentos relativos ao sistema HAC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mbinar a data/tempo/directrizes/conta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er relatórios prévios de audito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bter/relembrar legislação/códigos boas práticas/pl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bjectivo da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É definido em termos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crité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Produto (área/produ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Quais os perig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bio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fí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combi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Programa da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união de a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visão da documentação (Plano HAC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elecção dos PC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visão dos procedimentos e registos nos PC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colha de evid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união de encer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333399"/>
                </a:solidFill>
                <a:latin typeface="Arial"/>
              </a:rPr>
              <a:t>Preparação da checklist para a audi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enefícios da sua utiliz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Uniformidade nas auditorias/audi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Elenco das áreas a auditar/não au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Providencia uma estrutura para 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É um memorando onde estão os pontos prin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Ajuda na elaboração do relatório da auditoria e nas conclusões finais da reunião de encer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Torna as evidências obje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Preocupações relacionadas com a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guns auditores podem sentir algumas restri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guns auditores podem ficar com “vistas curt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dem tornar a auditoria l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dem ser consideradas só como uma lista de regi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Reunir e rever os documentos relativos ao sistema HAC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5329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ção dos vários campos d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pontos mais signifi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eparação para 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img_audito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3933720"/>
            <a:ext cx="3708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união de aber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68360" y="2133360"/>
            <a:ext cx="650088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trodução (inclusão de um gui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Âmbito d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ograma da audito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união de encerramento/rel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reuniao_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No programa de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3 passos importantes a não esquec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Revisão do Plano HAC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Selecção dos PC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Revisão dos procedimentos e registos dos PC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colha de evid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ravés de entrevistas, dos documentos, observação das actividades e condi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dicadores de possíveis não conformidades para serem investig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formações dos entrevistadores verificadas por outros me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Técnicas de obser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-se utilizar a seguinte interligação para estabelecer e confirmar os fa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8"/>
          <p:cNvGrpSpPr/>
          <p:nvPr/>
        </p:nvGrpSpPr>
        <p:grpSpPr>
          <a:xfrm>
            <a:off x="1403280" y="2997360"/>
            <a:ext cx="5618160" cy="2950920"/>
            <a:chOff x="1403280" y="2997360"/>
            <a:chExt cx="5618160" cy="2950920"/>
          </a:xfrm>
        </p:grpSpPr>
        <p:sp>
          <p:nvSpPr>
            <p:cNvPr id="160" name="AutoShape 4"/>
            <p:cNvSpPr/>
            <p:nvPr/>
          </p:nvSpPr>
          <p:spPr>
            <a:xfrm>
              <a:off x="2843280" y="3357720"/>
              <a:ext cx="2305080" cy="20174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"/>
            <p:cNvSpPr/>
            <p:nvPr/>
          </p:nvSpPr>
          <p:spPr>
            <a:xfrm>
              <a:off x="1403280" y="5084640"/>
              <a:ext cx="1657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cc0099"/>
                  </a:solidFill>
                  <a:latin typeface="Arial"/>
                </a:rPr>
                <a:t>Quest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3132360" y="2997360"/>
              <a:ext cx="1657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cc0099"/>
                  </a:solidFill>
                  <a:latin typeface="Arial"/>
                </a:rPr>
                <a:t>Observ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4788000" y="5084640"/>
              <a:ext cx="22334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cc0099"/>
                  </a:solidFill>
                  <a:latin typeface="Arial"/>
                </a:rPr>
                <a:t>Verificaçã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cc0099"/>
                  </a:solidFill>
                  <a:latin typeface="Arial"/>
                </a:rPr>
                <a:t>por fa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Tipos de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Auditorias inte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izadas pela própria organização (ou em sua representa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Auditorias exte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Realizadas por clientes da organização (ou por entidades em nome dos cl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Realizadas por organizações externas independentes (autoridades reguladoras, organismos certificadores, 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Técnicas de obser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ocurar fa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segurar que as observações podem ser verificadas/ testemunh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actos listados acompanhados de documentação para estabelecer conformidades/ não conform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audito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4437000"/>
            <a:ext cx="12924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Técnicas de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Metas a desenvol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Questionário e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Ouvir depoimentos – Recolher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Observação dos pontos im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Registar os testemun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Desenvolver técnicas que estabeleçam e mantenham a comunicação fácil com as pesso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Agradecer a cada pessoa a sua colabor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Tipos de quest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0099"/>
                </a:solidFill>
                <a:latin typeface="Arial"/>
              </a:rPr>
              <a:t>Aberta: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estimular a discussão e extrair o máximo de informação (O quê, onde, como, porquê, quem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0099"/>
                </a:solidFill>
                <a:latin typeface="Arial"/>
              </a:rPr>
              <a:t>Fechada: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Muitas questões destas podem levar a uma paragem, mas são muito eficientes quando se quer confirmar um facto (tipo pergunta que leve a uma resposta sim/ n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0099"/>
                </a:solidFill>
                <a:latin typeface="Arial"/>
              </a:rPr>
              <a:t>Especifica: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para obter uma informação muito precisa e dados obje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0099"/>
                </a:solidFill>
                <a:latin typeface="Arial"/>
              </a:rPr>
              <a:t>Hipotética: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para saber se os erros serão correctamente reconhecidos/ reac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os me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fun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4797360"/>
            <a:ext cx="1693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Comunicação não verb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147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Contacto vi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G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Expressão fa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Movimentos do corpo e pos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Distâ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Silen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0099"/>
                </a:solidFill>
                <a:latin typeface="Arial"/>
              </a:rPr>
              <a:t>Não esquecer: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o objectivo é ser o mais natural poss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locar as pessoas à vontade e não interrom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weilpier1"/>
          <p:cNvPicPr/>
          <p:nvPr/>
        </p:nvPicPr>
        <p:blipFill>
          <a:blip r:embed="rId1"/>
          <a:stretch/>
        </p:blipFill>
        <p:spPr>
          <a:xfrm>
            <a:off x="6877080" y="692280"/>
            <a:ext cx="20509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Documentação das não conform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eve ser clara e prec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eve ser baseada nos factos e escrita com objecti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0099"/>
                </a:solidFill>
                <a:latin typeface="Arial"/>
              </a:rPr>
              <a:t>Deve incluir referências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gistos devidamente identificados, procedimentos, secções do plano HACCP, actividade, equipamento, amostragem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edições identific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bservações presenciais e testemunh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tensão do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Documentação das não conformidad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0099"/>
                </a:solidFill>
                <a:latin typeface="Arial"/>
              </a:rPr>
              <a:t>Deve evit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Linguagem emo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Indefinição, indetermi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Descrição pouco clara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Acções correcti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contribuicao"/>
          <p:cNvPicPr/>
          <p:nvPr/>
        </p:nvPicPr>
        <p:blipFill>
          <a:blip r:embed="rId1"/>
          <a:stretch/>
        </p:blipFill>
        <p:spPr>
          <a:xfrm>
            <a:off x="7093080" y="4437000"/>
            <a:ext cx="175896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união  de encer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resentação das conclu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rmação das não conform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tabelecimento de acções correctivas (acordad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cisão das acções a tomar (acordad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entários fi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fim-do-mundo1"/>
          <p:cNvPicPr/>
          <p:nvPr/>
        </p:nvPicPr>
        <p:blipFill>
          <a:blip r:embed="rId1"/>
          <a:stretch/>
        </p:blipFill>
        <p:spPr>
          <a:xfrm>
            <a:off x="7164360" y="4149720"/>
            <a:ext cx="1679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latório da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da responsabilidade dos audi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teúdo: as declarações explanadas na reunião de encer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umário dos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utros documentos de trabalho que contenham informação útil, ex: ficha das não conformi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sinado e datado pelo auditor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Benefícios das audi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Verificação de um determinad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utros olhos, nov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álise inde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álise prec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ança no sistema e no prod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dentificação dos pontos fracos antes de eles se tornarem fal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Modo de manter e melhorar 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vidência os problemas tendo de se criar modos de actu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Validação e verificação do HAC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licação dos princípios do HAC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eparação do Plano HAC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Validação do Plano HAC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mplementação do P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Verificação das 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nálise das 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Auditoria"/>
          <p:cNvPicPr/>
          <p:nvPr/>
        </p:nvPicPr>
        <p:blipFill>
          <a:blip r:embed="rId1"/>
          <a:stretch/>
        </p:blipFill>
        <p:spPr>
          <a:xfrm>
            <a:off x="5292720" y="4492800"/>
            <a:ext cx="3200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fig26"/>
          <p:cNvPicPr/>
          <p:nvPr/>
        </p:nvPicPr>
        <p:blipFill>
          <a:blip r:embed="rId1"/>
          <a:stretch/>
        </p:blipFill>
        <p:spPr>
          <a:xfrm>
            <a:off x="971640" y="1146240"/>
            <a:ext cx="6985080" cy="4981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905640" y="6237360"/>
            <a:ext cx="46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http://www.eps.ufsc.br/disserta99/sybele/figuras/fig26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Valid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sponsabilidade d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dentificaram-se correctamente todos os perig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tes perigos estão efectivamente a ser controla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im do Plano HAC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passo4_1"/>
          <p:cNvPicPr/>
          <p:nvPr/>
        </p:nvPicPr>
        <p:blipFill>
          <a:blip r:embed="rId1"/>
          <a:stretch/>
        </p:blipFill>
        <p:spPr>
          <a:xfrm>
            <a:off x="6521400" y="4365720"/>
            <a:ext cx="2073240" cy="20876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4994640" y="6308640"/>
            <a:ext cx="39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https://www.certisign.com.br/produtos/ecpf/passo4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Verific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6778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 se programada e calendar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de ser iniciada por exist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ma mudança ou out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ci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da responsabilidade d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va legisl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comendações de auditores ex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ápis-e-verificação-thumb6032232"/>
          <p:cNvPicPr/>
          <p:nvPr/>
        </p:nvPicPr>
        <p:blipFill>
          <a:blip r:embed="rId1"/>
          <a:stretch/>
        </p:blipFill>
        <p:spPr>
          <a:xfrm>
            <a:off x="6156360" y="549360"/>
            <a:ext cx="2533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Tipos de audi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Auditorias combi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ndo 2 ou mais sistemas são auditados conjun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Auditoria conju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ndo 2 ou mais organizações cooperam para realizar uma auditoria a um único audi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55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ra a realização da auditoria deverá ser assegurado que os auditores reúnam as competências adequadas que os qualificam para essa fun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artoon2"/>
          <p:cNvPicPr/>
          <p:nvPr/>
        </p:nvPicPr>
        <p:blipFill>
          <a:blip r:embed="rId1"/>
          <a:stretch/>
        </p:blipFill>
        <p:spPr>
          <a:xfrm>
            <a:off x="5724360" y="3213000"/>
            <a:ext cx="2857680" cy="244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3470040" y="5877000"/>
            <a:ext cx="537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http://marketplace.publicradio.org/features/blind_trust/cartoon2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Perfil do auditor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hecimento do Sistema da Qu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hecimento de técnicas de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lificações técnicas na área a aud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depend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0:09:26Z</dcterms:created>
  <dc:creator>Paula</dc:creator>
  <dc:description/>
  <dc:language>en-US</dc:language>
  <cp:lastModifiedBy>Paula Correia</cp:lastModifiedBy>
  <cp:lastPrinted>2017-05-16T17:32:31Z</cp:lastPrinted>
  <dcterms:modified xsi:type="dcterms:W3CDTF">2017-05-16T17:32:38Z</dcterms:modified>
  <cp:revision>39</cp:revision>
  <dc:subject/>
  <dc:title>AUDITORIAS</dc:title>
</cp:coreProperties>
</file>